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.png" ContentType="image/png"/>
  <Override PartName="/ppt/media/image14.png" ContentType="image/png"/>
  <Override PartName="/ppt/media/image28.png" ContentType="image/png"/>
  <Override PartName="/ppt/media/image16.png" ContentType="image/png"/>
  <Override PartName="/ppt/media/image26.png" ContentType="image/png"/>
  <Override PartName="/ppt/media/image25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566-B21B-4DF6-BBF5-E2037BA8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C7E-A26C-47DE-8F7E-1B689CA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0C9-8F34-4DC6-ACB6-5D547A1D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DC4-76CD-476D-BBD1-8C918541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B8C4-FFDB-455C-92F4-FC7E859F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24A5-94A3-40AA-AFB4-8E0221D4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8E20-666D-4606-AE50-CE20FBB2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60B2-FC15-462E-A6A4-D6D368A2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0328-9AA5-4C94-93EC-0E2686A0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9EE3-D03F-4F98-8B3A-B4ACFF5F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06A5-659F-4DB2-A71E-AA0856B8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DD1-3B2A-4BDE-8D84-BE585E1B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ECDD-1122-4DAB-BB95-C97352E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8E61-6E4F-462C-B8BD-1E329FA2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4CA1-408A-43B1-A545-E0131EE6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02D5-7636-49A7-8978-CF6C82EB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2418-8502-45FB-A6B2-013C89E5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11D-9FBA-4948-BA67-4AC9AAF2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F22-C38A-43EF-857D-C233E1DA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348-7854-4E45-BD55-1993A06A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063-4BDE-4627-9690-8F38FF62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FE0-18D2-4D8A-BE5A-48F4E399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65F-FF9D-41ED-9D7F-FCB364F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43C-7DE0-4D36-8E3E-D4F41C2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67F4-703F-43F0-BC18-0EF6EEBA1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079A-0980-43BC-AEE4-8AF82F1B2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1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52280" y="2743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000000"/>
                </a:solidFill>
                <a:latin typeface="Comic Sans MS"/>
              </a:rPr>
              <a:t>tener = to have</a:t>
            </a:r>
            <a:endParaRPr b="0" lang="en-US" sz="8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523880"/>
          <a:ext cx="9144000" cy="5105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é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ll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17"/>
          <p:cNvSpPr/>
          <p:nvPr/>
        </p:nvSpPr>
        <p:spPr>
          <a:xfrm>
            <a:off x="685800" y="175248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en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2803680" y="2109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1981080" y="358128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33520" y="358128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ien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762120" y="502920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ie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4876920" y="190512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ene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15000" y="350532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ené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5638680" y="49528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ien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Businessman in a Hurry"/>
          <p:cNvPicPr/>
          <p:nvPr/>
        </p:nvPicPr>
        <p:blipFill>
          <a:blip r:embed="rId1"/>
          <a:stretch/>
        </p:blipFill>
        <p:spPr>
          <a:xfrm>
            <a:off x="8153280" y="5334120"/>
            <a:ext cx="762120" cy="1197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Berlin Sans FB Demi"/>
              </a:rPr>
              <a:t>tener…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j0102084"/>
          <p:cNvPicPr/>
          <p:nvPr/>
        </p:nvPicPr>
        <p:blipFill>
          <a:blip r:embed="rId3"/>
          <a:stretch/>
        </p:blipFill>
        <p:spPr>
          <a:xfrm>
            <a:off x="3276720" y="1143000"/>
            <a:ext cx="8190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4"/>
          <a:stretch/>
        </p:blipFill>
        <p:spPr>
          <a:xfrm>
            <a:off x="8153280" y="1295280"/>
            <a:ext cx="69084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3"/>
          <p:cNvSpPr/>
          <p:nvPr/>
        </p:nvSpPr>
        <p:spPr>
          <a:xfrm>
            <a:off x="337320" y="1066680"/>
            <a:ext cx="33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calo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647320" y="1143000"/>
            <a:ext cx="259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frío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82080" y="2971800"/>
            <a:ext cx="47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hambr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5803560" y="2971800"/>
            <a:ext cx="254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sed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201240" y="4800600"/>
            <a:ext cx="387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sueño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Tired Woman in Robe Holding a Cup of Coffee &amp; Newspaper"/>
          <p:cNvPicPr/>
          <p:nvPr/>
        </p:nvPicPr>
        <p:blipFill>
          <a:blip r:embed="rId5"/>
          <a:stretch/>
        </p:blipFill>
        <p:spPr>
          <a:xfrm>
            <a:off x="3657600" y="5181480"/>
            <a:ext cx="457200" cy="106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Thirsty Woman"/>
          <p:cNvPicPr/>
          <p:nvPr/>
        </p:nvPicPr>
        <p:blipFill>
          <a:blip r:embed="rId6"/>
          <a:stretch/>
        </p:blipFill>
        <p:spPr>
          <a:xfrm>
            <a:off x="7772400" y="2666880"/>
            <a:ext cx="1143000" cy="1239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3"/>
          <p:cNvSpPr/>
          <p:nvPr/>
        </p:nvSpPr>
        <p:spPr>
          <a:xfrm>
            <a:off x="5673960" y="4800600"/>
            <a:ext cx="333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pris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04920" y="0"/>
            <a:ext cx="8534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Berlin Sans FB Demi"/>
              </a:rPr>
              <a:t>tener</a:t>
            </a: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 + </a:t>
            </a:r>
            <a:r>
              <a:rPr b="0" lang="en-US" sz="100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 + infinitiv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04920" y="403848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“</a:t>
            </a: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To have to…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52640" y="53337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Man Eating Hamburger"/>
          <p:cNvPicPr/>
          <p:nvPr/>
        </p:nvPicPr>
        <p:blipFill>
          <a:blip r:embed="rId1"/>
          <a:stretch/>
        </p:blipFill>
        <p:spPr>
          <a:xfrm>
            <a:off x="2666880" y="22860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52640" y="53337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dormir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at Laying on Sleeping Man"/>
          <p:cNvPicPr/>
          <p:nvPr/>
        </p:nvPicPr>
        <p:blipFill>
          <a:blip r:embed="rId1"/>
          <a:stretch/>
        </p:blipFill>
        <p:spPr>
          <a:xfrm>
            <a:off x="1981080" y="380880"/>
            <a:ext cx="5181840" cy="49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rrer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8" descr="Businessman in a Hurry"/>
          <p:cNvPicPr/>
          <p:nvPr/>
        </p:nvPicPr>
        <p:blipFill>
          <a:blip r:embed="rId1"/>
          <a:stretch/>
        </p:blipFill>
        <p:spPr>
          <a:xfrm>
            <a:off x="2971800" y="304920"/>
            <a:ext cx="296064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52640" y="53337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hacer la tarea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Female Student"/>
          <p:cNvPicPr/>
          <p:nvPr/>
        </p:nvPicPr>
        <p:blipFill>
          <a:blip r:embed="rId1"/>
          <a:stretch/>
        </p:blipFill>
        <p:spPr>
          <a:xfrm>
            <a:off x="2209680" y="0"/>
            <a:ext cx="467388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-228600" y="0"/>
            <a:ext cx="975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erlin Sans FB Demi"/>
              </a:rPr>
              <a:t>tener</a:t>
            </a:r>
            <a:r>
              <a:rPr b="0" lang="en-US" sz="9600" spc="-1" strike="noStrike">
                <a:solidFill>
                  <a:srgbClr val="000000"/>
                </a:solidFill>
                <a:latin typeface="Berlin Sans FB Demi"/>
              </a:rPr>
              <a:t> + </a:t>
            </a:r>
            <a:r>
              <a:rPr b="0" lang="en-US" sz="96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9600" spc="-1" strike="noStrike">
                <a:solidFill>
                  <a:srgbClr val="000000"/>
                </a:solidFill>
                <a:latin typeface="Berlin Sans FB Demi"/>
              </a:rPr>
              <a:t> + infini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04920" y="403848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“</a:t>
            </a: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To feel like…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 una hamburguesa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6" descr="Hungry Man"/>
          <p:cNvPicPr/>
          <p:nvPr/>
        </p:nvPicPr>
        <p:blipFill>
          <a:blip r:embed="rId1"/>
          <a:stretch/>
        </p:blipFill>
        <p:spPr>
          <a:xfrm>
            <a:off x="2819520" y="0"/>
            <a:ext cx="4267080" cy="47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 panqueques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16" descr="Hungry Man"/>
          <p:cNvPicPr/>
          <p:nvPr/>
        </p:nvPicPr>
        <p:blipFill>
          <a:blip r:embed="rId1"/>
          <a:stretch/>
        </p:blipFill>
        <p:spPr>
          <a:xfrm>
            <a:off x="2819520" y="0"/>
            <a:ext cx="4267080" cy="4754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0" descr="Pancakes with Syrup"/>
          <p:cNvPicPr/>
          <p:nvPr/>
        </p:nvPicPr>
        <p:blipFill>
          <a:blip r:embed="rId2"/>
          <a:stretch/>
        </p:blipFill>
        <p:spPr>
          <a:xfrm>
            <a:off x="5276880" y="-228600"/>
            <a:ext cx="1352520" cy="15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 pastel de chocolat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6" descr="Hungry Man"/>
          <p:cNvPicPr/>
          <p:nvPr/>
        </p:nvPicPr>
        <p:blipFill>
          <a:blip r:embed="rId1"/>
          <a:stretch/>
        </p:blipFill>
        <p:spPr>
          <a:xfrm>
            <a:off x="2819520" y="0"/>
            <a:ext cx="4267080" cy="4754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://clipsahoy.com/clipart/as0062.gif"/>
          <p:cNvPicPr/>
          <p:nvPr/>
        </p:nvPicPr>
        <p:blipFill>
          <a:blip r:embed="rId2"/>
          <a:stretch/>
        </p:blipFill>
        <p:spPr>
          <a:xfrm>
            <a:off x="5410080" y="304920"/>
            <a:ext cx="1143000" cy="10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1417680"/>
          <a:ext cx="9372600" cy="54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7680"/>
                    <a:ext cx="937260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3"/>
          <p:cNvSpPr/>
          <p:nvPr/>
        </p:nvSpPr>
        <p:spPr>
          <a:xfrm>
            <a:off x="762120" y="609480"/>
            <a:ext cx="406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erlin Sans FB Demi"/>
              </a:rPr>
              <a:t>yo ten</a:t>
            </a:r>
            <a:r>
              <a:rPr b="1" lang="en-US" sz="6600" spc="-1" strike="noStrike">
                <a:solidFill>
                  <a:srgbClr val="0000ff"/>
                </a:solidFill>
                <a:latin typeface="Berlin Sans FB Demi"/>
              </a:rPr>
              <a:t>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38080" y="1752480"/>
            <a:ext cx="406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erlin Sans FB Demi"/>
              </a:rPr>
              <a:t>tú t</a:t>
            </a:r>
            <a:r>
              <a:rPr b="1" lang="en-US" sz="66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1" lang="en-US" sz="6600" spc="-1" strike="noStrike">
                <a:solidFill>
                  <a:srgbClr val="000000"/>
                </a:solidFill>
                <a:latin typeface="Berlin Sans FB Demi"/>
              </a:rPr>
              <a:t>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09480" y="3352680"/>
            <a:ext cx="406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él   t</a:t>
            </a:r>
            <a:r>
              <a:rPr b="0" lang="en-US" sz="60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8600" y="4038480"/>
            <a:ext cx="406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ella  t</a:t>
            </a:r>
            <a:r>
              <a:rPr b="0" lang="en-US" sz="60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79360" y="4724280"/>
            <a:ext cx="406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Ud.  t</a:t>
            </a:r>
            <a:r>
              <a:rPr b="0" lang="en-US" sz="60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419720" y="2286000"/>
            <a:ext cx="619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nosotros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 ten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0" y="3062160"/>
            <a:ext cx="50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vosotros</a:t>
            </a: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tené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886200" y="4738680"/>
            <a:ext cx="40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ellos  t</a:t>
            </a:r>
            <a:r>
              <a:rPr b="1" lang="en-US" sz="48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n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114800" y="5272200"/>
            <a:ext cx="40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ellas  t</a:t>
            </a:r>
            <a:r>
              <a:rPr b="1" lang="en-US" sz="48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n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4317840" y="5791320"/>
            <a:ext cx="40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Uds.  t</a:t>
            </a:r>
            <a:r>
              <a:rPr b="1" lang="en-US" sz="48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n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>
            <a:off x="5486400" y="304920"/>
            <a:ext cx="3505320" cy="1676160"/>
          </a:xfrm>
          <a:prstGeom prst="pi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5867280" y="6094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ener is a </a:t>
            </a:r>
            <a:r>
              <a:rPr b="0" i="1" lang="en-US" sz="3200" spc="-1" strike="noStrike">
                <a:solidFill>
                  <a:srgbClr val="0000ff"/>
                </a:solidFill>
                <a:latin typeface="Arial Black"/>
              </a:rPr>
              <a:t>go-go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ver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j0251066"/>
          <p:cNvPicPr/>
          <p:nvPr/>
        </p:nvPicPr>
        <p:blipFill>
          <a:blip r:embed="rId3"/>
          <a:stretch/>
        </p:blipFill>
        <p:spPr>
          <a:xfrm rot="2726400">
            <a:off x="2136960" y="225000"/>
            <a:ext cx="1600200" cy="69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 una papa al horno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6" descr="Hungry Man"/>
          <p:cNvPicPr/>
          <p:nvPr/>
        </p:nvPicPr>
        <p:blipFill>
          <a:blip r:embed="rId1"/>
          <a:stretch/>
        </p:blipFill>
        <p:spPr>
          <a:xfrm>
            <a:off x="2819520" y="0"/>
            <a:ext cx="4267080" cy="4754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2" descr="http://clipsahoy.com/clipart2/aw3878.gif"/>
          <p:cNvPicPr/>
          <p:nvPr/>
        </p:nvPicPr>
        <p:blipFill>
          <a:blip r:embed="rId2"/>
          <a:stretch/>
        </p:blipFill>
        <p:spPr>
          <a:xfrm>
            <a:off x="5257800" y="-255600"/>
            <a:ext cx="152388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Thirsty Woman"/>
          <p:cNvPicPr/>
          <p:nvPr/>
        </p:nvPicPr>
        <p:blipFill>
          <a:blip r:embed="rId1"/>
          <a:stretch/>
        </p:blipFill>
        <p:spPr>
          <a:xfrm>
            <a:off x="1905120" y="0"/>
            <a:ext cx="4800600" cy="4875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beber un vaso de agua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Thirsty Woman"/>
          <p:cNvPicPr/>
          <p:nvPr/>
        </p:nvPicPr>
        <p:blipFill>
          <a:blip r:embed="rId1"/>
          <a:stretch/>
        </p:blipFill>
        <p:spPr>
          <a:xfrm>
            <a:off x="1905120" y="0"/>
            <a:ext cx="4800600" cy="4875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beber un jugo de naranja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2" descr="http://clipsahoy.com/clipart2/as3655.gif"/>
          <p:cNvPicPr/>
          <p:nvPr/>
        </p:nvPicPr>
        <p:blipFill>
          <a:blip r:embed="rId2"/>
          <a:stretch/>
        </p:blipFill>
        <p:spPr>
          <a:xfrm>
            <a:off x="5181480" y="457200"/>
            <a:ext cx="1600200" cy="95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irsty Woman"/>
          <p:cNvPicPr/>
          <p:nvPr/>
        </p:nvPicPr>
        <p:blipFill>
          <a:blip r:embed="rId1"/>
          <a:stretch/>
        </p:blipFill>
        <p:spPr>
          <a:xfrm>
            <a:off x="1905120" y="0"/>
            <a:ext cx="4800600" cy="48751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beber un café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ot Coffee"/>
          <p:cNvPicPr/>
          <p:nvPr/>
        </p:nvPicPr>
        <p:blipFill>
          <a:blip r:embed="rId2"/>
          <a:stretch/>
        </p:blipFill>
        <p:spPr>
          <a:xfrm>
            <a:off x="4648320" y="-380880"/>
            <a:ext cx="190476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irsty Woman"/>
          <p:cNvPicPr/>
          <p:nvPr/>
        </p:nvPicPr>
        <p:blipFill>
          <a:blip r:embed="rId1"/>
          <a:stretch/>
        </p:blipFill>
        <p:spPr>
          <a:xfrm>
            <a:off x="1905120" y="0"/>
            <a:ext cx="4800600" cy="48751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beber un chocolat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8" descr="http://clipsahoy.com/clipart/as0161.gif"/>
          <p:cNvPicPr/>
          <p:nvPr/>
        </p:nvPicPr>
        <p:blipFill>
          <a:blip r:embed="rId2"/>
          <a:stretch/>
        </p:blipFill>
        <p:spPr>
          <a:xfrm>
            <a:off x="5105520" y="192240"/>
            <a:ext cx="914400" cy="11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98200" y="192240"/>
            <a:ext cx="6217200" cy="84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TENER SUER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NO TENER SUER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60840" y="4957920"/>
            <a:ext cx="1820880" cy="1519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60840" y="1523880"/>
            <a:ext cx="18208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66000" y="200160"/>
            <a:ext cx="67521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Arial"/>
              </a:rPr>
              <a:t>Tener Raz</a:t>
            </a:r>
            <a:r>
              <a:rPr b="1" lang="en-US" sz="5000" spc="-1" strike="noStrike">
                <a:solidFill>
                  <a:srgbClr val="800080"/>
                </a:solidFill>
                <a:latin typeface="Arial"/>
                <a:ea typeface="ＭＳ Ｐゴシック"/>
              </a:rPr>
              <a:t>ó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Quince menos trec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son dos. (s</a:t>
            </a:r>
            <a:r>
              <a:rPr b="1" lang="en-US" sz="5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í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~~~~~~~~~~~~~~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Arial"/>
              </a:rPr>
              <a:t>No Tener Raz</a:t>
            </a:r>
            <a:r>
              <a:rPr b="1" lang="en-US" sz="5000" spc="-1" strike="noStrike">
                <a:solidFill>
                  <a:srgbClr val="800080"/>
                </a:solidFill>
                <a:latin typeface="Arial"/>
                <a:ea typeface="ＭＳ Ｐゴシック"/>
              </a:rPr>
              <a:t>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no por dos son tre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(¡no!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55040" y="649440"/>
            <a:ext cx="4032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Tener Sue</a:t>
            </a:r>
            <a:r>
              <a:rPr b="1" lang="en-US" sz="5000" spc="-1" strike="noStrike">
                <a:solidFill>
                  <a:srgbClr val="c0504d"/>
                </a:solidFill>
                <a:latin typeface="Arial"/>
                <a:ea typeface="ＭＳ Ｐゴシック"/>
              </a:rPr>
              <a:t>ñ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39040" y="4764240"/>
            <a:ext cx="5694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…</a:t>
            </a: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a las cinco de l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    </a:t>
            </a: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ma</a:t>
            </a:r>
            <a:r>
              <a:rPr b="1" lang="en-US" sz="5000" spc="-1" strike="noStrike">
                <a:solidFill>
                  <a:srgbClr val="c0504d"/>
                </a:solidFill>
                <a:latin typeface="Arial"/>
                <a:ea typeface="ＭＳ Ｐゴシック"/>
              </a:rPr>
              <a:t>ñan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32440" y="685800"/>
            <a:ext cx="13971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Z-z-z-z-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105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I am hungry.  I want a hambur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We are thirsty.  We are going to drink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He is in a hurry.  He needs the che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I feel like eating Chinese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They are hot.  They feel like eating ice cr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1522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PRÁCTICA…Using your </a:t>
            </a:r>
            <a:r>
              <a:rPr b="1" lang="en-US" sz="3200" spc="-1" strike="noStrike">
                <a:solidFill>
                  <a:srgbClr val="ff0000"/>
                </a:solidFill>
                <a:latin typeface="Kristen ITC"/>
              </a:rPr>
              <a:t>tener</a:t>
            </a: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 expressions, translate to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Man Eating Hamburger"/>
          <p:cNvPicPr/>
          <p:nvPr/>
        </p:nvPicPr>
        <p:blipFill>
          <a:blip r:embed="rId1"/>
          <a:stretch/>
        </p:blipFill>
        <p:spPr>
          <a:xfrm>
            <a:off x="10134720" y="1066680"/>
            <a:ext cx="880920" cy="1067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Hungry Man"/>
          <p:cNvPicPr/>
          <p:nvPr/>
        </p:nvPicPr>
        <p:blipFill>
          <a:blip r:embed="rId2"/>
          <a:stretch/>
        </p:blipFill>
        <p:spPr>
          <a:xfrm>
            <a:off x="6705720" y="914400"/>
            <a:ext cx="102528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Thirsty Woman"/>
          <p:cNvPicPr/>
          <p:nvPr/>
        </p:nvPicPr>
        <p:blipFill>
          <a:blip r:embed="rId3"/>
          <a:stretch/>
        </p:blipFill>
        <p:spPr>
          <a:xfrm>
            <a:off x="7924680" y="2438280"/>
            <a:ext cx="1219320" cy="1320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http://clipsahoy.com/clipart2/as3294.gif"/>
          <p:cNvPicPr/>
          <p:nvPr/>
        </p:nvPicPr>
        <p:blipFill>
          <a:blip r:embed="rId4"/>
          <a:stretch/>
        </p:blipFill>
        <p:spPr>
          <a:xfrm>
            <a:off x="6553080" y="4038480"/>
            <a:ext cx="878040" cy="106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http://clipsahoy.com/clipart2/as2586.gif"/>
          <p:cNvPicPr/>
          <p:nvPr/>
        </p:nvPicPr>
        <p:blipFill>
          <a:blip r:embed="rId5"/>
          <a:stretch/>
        </p:blipFill>
        <p:spPr>
          <a:xfrm>
            <a:off x="9524880" y="3200400"/>
            <a:ext cx="838440" cy="91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clipsahoy.com/clipart/as1141.gif"/>
          <p:cNvPicPr/>
          <p:nvPr/>
        </p:nvPicPr>
        <p:blipFill>
          <a:blip r:embed="rId6"/>
          <a:stretch/>
        </p:blipFill>
        <p:spPr>
          <a:xfrm>
            <a:off x="9296280" y="5334120"/>
            <a:ext cx="1295640" cy="120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Businessman in a Hurry"/>
          <p:cNvPicPr/>
          <p:nvPr/>
        </p:nvPicPr>
        <p:blipFill>
          <a:blip r:embed="rId7"/>
          <a:stretch/>
        </p:blipFill>
        <p:spPr>
          <a:xfrm>
            <a:off x="0" y="320040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clipsahoy.com/clipart2/as2686.gif"/>
          <p:cNvPicPr/>
          <p:nvPr/>
        </p:nvPicPr>
        <p:blipFill>
          <a:blip r:embed="rId8"/>
          <a:stretch/>
        </p:blipFill>
        <p:spPr>
          <a:xfrm>
            <a:off x="2590920" y="5813280"/>
            <a:ext cx="685800" cy="1044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clipsahoy.com/clipart2/as2686.gif"/>
          <p:cNvPicPr/>
          <p:nvPr/>
        </p:nvPicPr>
        <p:blipFill>
          <a:blip r:embed="rId9"/>
          <a:stretch/>
        </p:blipFill>
        <p:spPr>
          <a:xfrm>
            <a:off x="3352680" y="5813280"/>
            <a:ext cx="685800" cy="1044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clipsahoy.com/clipart2/as2686.gif"/>
          <p:cNvPicPr/>
          <p:nvPr/>
        </p:nvPicPr>
        <p:blipFill>
          <a:blip r:embed="rId10"/>
          <a:stretch/>
        </p:blipFill>
        <p:spPr>
          <a:xfrm>
            <a:off x="1905120" y="5813280"/>
            <a:ext cx="685800" cy="10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d Instead of the verb “to be”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s expresiones</a:t>
            </a:r>
            <a:r>
              <a:rPr b="1" lang="en-US" sz="6000" spc="-1" strike="noStrike">
                <a:solidFill>
                  <a:srgbClr val="000000"/>
                </a:solidFill>
                <a:latin typeface="Berlin Sans FB Demi"/>
              </a:rPr>
              <a:t> con </a:t>
            </a:r>
            <a:r>
              <a:rPr b="1" lang="en-US" sz="6000" spc="-1" strike="noStrike">
                <a:solidFill>
                  <a:srgbClr val="ff0000"/>
                </a:solidFill>
                <a:latin typeface="Berlin Sans FB Demi"/>
              </a:rPr>
              <a:t>TENER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228960" y="144756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Él tiene calor</a:t>
            </a:r>
            <a:r>
              <a:rPr b="1" lang="en-US" sz="9000" spc="-1" strike="noStrike">
                <a:solidFill>
                  <a:srgbClr val="000000"/>
                </a:solidFill>
                <a:latin typeface="Berlin Sans FB Demi"/>
              </a:rPr>
              <a:t>. Quiere un helado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j0102084"/>
          <p:cNvPicPr/>
          <p:nvPr/>
        </p:nvPicPr>
        <p:blipFill>
          <a:blip r:embed="rId1"/>
          <a:stretch/>
        </p:blipFill>
        <p:spPr>
          <a:xfrm>
            <a:off x="-76320" y="2971800"/>
            <a:ext cx="2667240" cy="371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clipsahoy.com/clipart2/as2351.gif"/>
          <p:cNvPicPr/>
          <p:nvPr/>
        </p:nvPicPr>
        <p:blipFill>
          <a:blip r:embed="rId2"/>
          <a:stretch/>
        </p:blipFill>
        <p:spPr>
          <a:xfrm>
            <a:off x="6629400" y="2819520"/>
            <a:ext cx="204948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Él tiene frío</a:t>
            </a:r>
            <a:r>
              <a:rPr b="1" lang="en-US" sz="9000" spc="-1" strike="noStrike">
                <a:solidFill>
                  <a:srgbClr val="000000"/>
                </a:solidFill>
                <a:latin typeface="Berlin Sans FB Demi"/>
              </a:rPr>
              <a:t>. Quiere una sopa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236760" cy="4359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clipsahoy.com/clipart2/aw4443.gif"/>
          <p:cNvPicPr/>
          <p:nvPr/>
        </p:nvPicPr>
        <p:blipFill>
          <a:blip r:embed="rId2"/>
          <a:stretch/>
        </p:blipFill>
        <p:spPr>
          <a:xfrm>
            <a:off x="5376960" y="3276720"/>
            <a:ext cx="3481200" cy="31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Berlin Sans FB Demi"/>
              </a:rPr>
              <a:t>Ellos tienen hambre.</a:t>
            </a:r>
            <a:br>
              <a:rPr sz="6300"/>
            </a:br>
            <a:r>
              <a:rPr b="1" lang="en-US" sz="6300" spc="-1" strike="noStrike">
                <a:solidFill>
                  <a:srgbClr val="000000"/>
                </a:solidFill>
                <a:latin typeface="Berlin Sans FB Demi"/>
              </a:rPr>
              <a:t>Quieren comer la cena.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5365800" cy="495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35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990360"/>
            <a:ext cx="975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 Demi"/>
              </a:rPr>
              <a:t>La mujer</a:t>
            </a:r>
            <a:r>
              <a:rPr b="1" lang="en-US" sz="7200" spc="-1" strike="noStrike">
                <a:solidFill>
                  <a:srgbClr val="000000"/>
                </a:solidFill>
                <a:latin typeface="Berlin Sans FB Demi"/>
                <a:ea typeface="Arial"/>
              </a:rPr>
              <a:t> tiene sueñ</a:t>
            </a:r>
            <a:r>
              <a:rPr b="1" lang="en-US" sz="7200" spc="-1" strike="noStrike">
                <a:solidFill>
                  <a:srgbClr val="000000"/>
                </a:solidFill>
                <a:latin typeface="Berlin Sans FB Demi"/>
              </a:rPr>
              <a:t>o. Necesita una taza de café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Tired Woman in Robe Holding a Cup of Coffee &amp; Newspaper"/>
          <p:cNvPicPr/>
          <p:nvPr/>
        </p:nvPicPr>
        <p:blipFill>
          <a:blip r:embed="rId2"/>
          <a:stretch/>
        </p:blipFill>
        <p:spPr>
          <a:xfrm>
            <a:off x="6248520" y="2043000"/>
            <a:ext cx="2057400" cy="48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704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2286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Ella tiene sed.</a:t>
            </a:r>
            <a:br>
              <a:rPr sz="9000"/>
            </a:b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Quiere un vaso de agua.</a:t>
            </a:r>
            <a:r>
              <a:rPr b="0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Thirsty Woman"/>
          <p:cNvPicPr/>
          <p:nvPr/>
        </p:nvPicPr>
        <p:blipFill>
          <a:blip r:embed="rId2"/>
          <a:stretch/>
        </p:blipFill>
        <p:spPr>
          <a:xfrm>
            <a:off x="5334120" y="2313000"/>
            <a:ext cx="4190760" cy="45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63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4475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Él tiene prisa(rushed). Necesita la cuenta.</a:t>
            </a:r>
            <a:r>
              <a:rPr b="0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-121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Businessman in a Hurry"/>
          <p:cNvPicPr/>
          <p:nvPr/>
        </p:nvPicPr>
        <p:blipFill>
          <a:blip r:embed="rId1"/>
          <a:stretch/>
        </p:blipFill>
        <p:spPr>
          <a:xfrm>
            <a:off x="6019920" y="1981080"/>
            <a:ext cx="29606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58:59Z</dcterms:created>
  <dc:creator>Lazar Computer</dc:creator>
  <dc:description/>
  <dc:language>en-US</dc:language>
  <cp:lastModifiedBy>daly</cp:lastModifiedBy>
  <dcterms:modified xsi:type="dcterms:W3CDTF">2012-12-15T00:44:08Z</dcterms:modified>
  <cp:revision>25</cp:revision>
  <dc:subject/>
  <dc:title>Slide 1</dc:title>
</cp:coreProperties>
</file>